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7487-F0BE-4149-B68E-217318FAD9D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ниторинг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образован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4354-EB5A-4A1C-B08D-A947CCD029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иды мониторин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уровням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школь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район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областной (региональный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федераль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4CE7-9F18-42DF-8C86-B9527BF03F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азличия между мониторингом и исследование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ладая признаками эмпирического исследования,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ониторинг имеет следующие существенные отлич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чина возникнов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отсутствие качественной информации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(причина любого научного исследования – осознание недостаточности имеющихся знаний для удовлетворительного описания какого-либо явления)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E85A-9EF3-4AAF-9F96-3C8AADEC03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ег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зультат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ценны в ограниченный период времени: чем выше динамика развития системы, тем короче период ценности дан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научное исследование предполагает минимизацию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личества показателе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для мониторинга важен более широкий выбо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783B-B3BF-4FBD-B714-AB7272583E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мониторинг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лизок к наблюдению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он не предполагает на этапе проведения вмешательства в функционирование сист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мониторинг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 имеет целью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одтверждение или опровержение гипотез, хотя в результате могут быть получены данные, имеющие научную ц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23FD-E631-4230-AEB1-D71B7EB906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рганизация мониторин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нципы мониторин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Объективность информации: процесс мониторинга должен опираться на объективные, максимально формализованные и легко проверяемые да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Сравнимость данных: мониторинг предполагает не только констатацию состояния системы, но и изучение ее изменений. Возможность для сравнения появляется только тогда, когда изучается один и тот же объект на основе одинаковых показ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89F9-5F9A-43C9-8B29-67A97948A8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нципы мониторин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декватность: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полагает изучение системы с учетом изменяющихся внешних условий (на соответствие и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рогностичность: получение данных, позволяющих прогнозировать будущее системы, возможные изменения в путях достижения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Принцип целевого назначения: получение необходимой и достаточной информации, исходя из обозначенной цели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5C44-4753-4FDD-B4A1-939419D23A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рганизация мониторин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акторы и условия проведения мониторин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чество инструментар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контролируемый фактор; общеметодологические требования к инструменту – валидность, надежность, удобство использования, соответствие целям обследования, корректность статистических процедур, стандартизированность, апробированность и т.д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5C59-AC8E-4882-A2D5-4044602A77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фессионализм и подготовленность специалисто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контролируемый фактор; процесс измерения разбивается на несколько этапов: создание инструментария, измерения, интерпретация результатов, подготовка рекомендаций, которые могут использовать специалис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зменение экспертов в процессе измер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контролируемый при определенных условиях фактор; причина изменений – научение, появление опыта, согласование позиций, когда мнение одного, более авторитетного эксперта начинает смещать оценки друг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1B4C-A950-47C2-94E9-90D361030E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татистическая регресс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искажение результатов в процессе обслед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циклич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неконтролируемый, но учитываемый фактор; социальные процессы имеют ярко выраженный циклический характер, что необходимо учитыв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тбор испытуемых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арианты отбора и формирование экспериментальных групп – один из центральных факторов, контроль за которым позволяет не только выровнять оценки, но и решить проблему распространения результатов обследования на более широкую аудитор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C0C1-573F-4821-AA3B-72EB627CF3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рушение в информационных потоках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объект измерения может обладать информацией, специальное знакомство с которой при измерении не предполагается, или часть этой информации отсутствует, или владение информацией недостаточн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личные мотивации участников в естественных условиях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часто оказывается, что одни и те же действия в ситуациях управления осуществляются с неодинаковыми цел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ффект повторного измер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если какое-то задание уже выполнялось, это скажется на его повторении. Вопрос в том, при каких условиях можно считать такие влияния достаточно малыми с точки зрения их воздействия на конечный результ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F4E9-B2DF-45D2-81CB-F60A194188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пределение понятия «мониторинг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сбора, обработки, хранения и распространения информации об образовательной системе или отдельных ее элементах, ориентированная на информационное обеспечение управления, которая позволяет судить о состоянии объекта в любой момент времени и может обеспечить прогноз его развития (А.Н. Майоров, Т.А. Степанова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C6AE-268B-4021-B826-382E188CD4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зменение группы под влиянием отношений окружающих, вызванных экспериментальным влияние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 экспериментальных условиях люди начинают оценивать  свое положение относительно тех, кто в такие условия не попал. Если эти оценки активно поддерживаются окружением, то у представителей группы начинает вырабатываться иная система оцени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рупповая фальсификация результато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респонденты договариваются, какие оценки будут дав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1AB6-0426-4149-93FC-B157054031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зменение группы в процессе эксперимент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изменения могут иметь как случайный, так и системный характер; они могут быть естественными и спровоцированн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стественное развити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 процессе эксперимента происходит естественное развитие как всей группы, так и ее отдельных членов; чем меньше дети, тем динамика их развития больш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циально-территориальные особенности групп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ыбирая, например, в качестве единицы измерения класс, чтобы не получить смещенных оценок и иметь возможность для корректного сравнения, необходимо учитывать его социально-демографические характерис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EEBB-0302-4B34-A5D6-2A9A9CAC5A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ные события для разных групп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различные воздействия в межэкспериментальный период могут вызвать различные смещения оцен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личия во внутренней жизни групп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существуют объективные закономерности жизни группы, связанные с ее морфологией и определяющие качественные изменения, различные в каждом конкретном случа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личия в скорости протекания внутригрупповых процессо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экспериментальное или управленческое воздействие на группы могут дать одинаковый эффект, но скорость их проявления может быть разной. Существует реальная опасность зафиксировать отсутствие эффекта, хотя он просто еще не проявил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0AB6-1ECC-45DB-90A6-A2B7E2AFD3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словия, вызывающие реакцию на эксперимен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реальные изменения, наблюдаемые в условиях и вне эксперимента, могут оказаться неэквивалентн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терференция воздейств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озникает тогда, когда один и тот же испытуеый подвергается различным воздействиям, разнесенным по време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инергиз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 случае совместного проявления некоторых воздействий, одно из которых может иметь естественный, а другое экспериментальный (отслеживаемый) характер, эффект может превзойти предполагаемые и вероятные эффекты каждого из них. Существует опасность восприятия эксперимента как неудавшего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FECC-127A-4A42-9474-7F2DC63A06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мпенсатор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один эффект может компенсировать другой: два или несколько воздействий, проявляясь одновременно, могут скомпенсировать эффект, который вызывается иными событиями. Например, повышение субъективных оценок уровня удовлетворенности заработной платой при наличии дополнительных возможностей для твор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E059-B633-4996-A47E-C66657C9F6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рганизационно-правовые основы мониторинга в О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ожение о службе мониторинга (задачи, направления, содержание деятельности службы, права и обязанности членов, формы отчета, сроки предоставления) – утверждается на педсове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 о составе службы мониторинга на текущий учебный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ъекты мониторинговой оценки зафиксированы в годовом плане, программе развития, образовательной програм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13B0-9903-4FF3-9E74-305A2DAD4C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ритерии эффективности мониторинга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.Г.Горб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этически выдержана и не нарушает личностных прав субъектов образователь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способствует конкретизации личностных и групповых целей образовательной деятельности ДО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рректно заданы норм и стандарты мониторинговой оц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помогает лучше оценивать уровень профессиональной подготовки и определять наиболее эффективные пути профессионального совершенствования педаг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мотивирует индивида к повышению своего профессионального уровня и стимулирует личностное само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5D77-F7C8-419A-A151-CB2F6BC55A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ритерии эффективности мониторинга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.Г.Горб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способствует конструктивному диалогу между участниками образователь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создает условия для рационального разрешения проблем, возникающих в профессиональной групп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носит неагрессивный характер и в достаточной степени доступна всем субъектам образователь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способствует повышению культуры 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помогает оценить качество реализации в образовательном процессе требований Государственного образовательного станда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E1C2-052B-4480-8A4F-4129DCE695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ческая карта монитор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рмативно-установоч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алитико-диагност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гност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ятельностно-технолог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межуточно-диагност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тогово-диагност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о-методическ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454D-0943-4B8C-9E5D-9C8FD506D7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феры применения мониторин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областям примен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 экологии, биологии, медицине, экономике, бизнесе, в промышленности и образован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средствам провед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дагогический, психологический, социологический, медицинский, демографический мониторин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способам сбора информа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 гр. – непосредственное описание объектов без каких-либо измен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 гр.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посредственное физическое измерение параметров объе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 гр. – параметры объекта измеряются с использованием хорошо разработанных и общепринятых критериев или индикат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 гр. – измерение проводится опосредованно, с привлечением технологий научного исследования, использованием особо оговоренных систем критериев и показ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500F-FC68-4046-9DA2-017E8C1B6D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истемы мониторинга в образован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-я гр. – накопление и структуризация информации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#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мониторинг законодательной базы управления образованием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-я гр. – мониторинг развития знаний уч-ся ( модель «цель – результат» и учет характеристик процесса обучения; объект – знания ученика, по которым допускаются выводы о ситуации в учебной групп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C3CC-EF2E-499A-B5A2-23E1AF50F8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иды мониторин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целя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формационн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предполагает структуризацию, накопление, распространение информации 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редусматривает специально организованного обследования на этапе сбора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азов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ыявляет проблемы и опасности до того, как они будут осознаны в сфере управл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0266-B845-44EE-A783-4F66A90ACE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облемн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позволяет исследовать закономерности процессов, степени опасностей, типологию проблем, известных и насущных с точки зрения у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правленческ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ставит целью отслеживать и оценивать эффективность, последствия и вторичные эффекты принятых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573E-85F1-4F31-92F6-DC3B60893F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иды мониторин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основаниям экспертиз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инамическ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основанием для экспертизы служат данные о динамике развития объекта, явления или показате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курентн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ыбираются результаты идентичного обследования других образовательных сист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равнительн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в качестве основания выступают результаты идентичного обследования одной или двух систем более высокого уровн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4FF4-8555-4200-8FF6-571E24A4EA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мплексн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используется несколько оснований для экспертиз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езосновн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 предметом анализа являются результаты, полученные в одном исследовании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акой способ не может быть корректным, но существует, порождая массу ошибок и недоразум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557A-1DDA-4452-87EA-CE3FF7F5CD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7D904-3172-4063-BCD4-E90B61C1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B9729-67B1-4214-A820-01337797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231CA-2DB0-45B5-9DA6-BDE7D6706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B0469-CA81-4CD9-969C-B943203B6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6A20-ECDF-46F0-94D8-99DAFB1AA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5924-875F-4900-8F23-1410CBF4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DACD-F0FA-439C-841D-0F673E9C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9BEB-1D70-42EF-B3BA-0E89E0E3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C198-9050-44CC-8285-45145BAD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EECF-81C2-42A1-8E0B-57E42FBA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F8E8-C7DF-416A-941D-EAA0E620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E5A3F-656B-42A5-A1FE-1E591447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61C7-F207-4189-B516-CA53B7E0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7762-6EB3-4D1D-BE86-E8A9B05F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158B-2D2F-4E6D-A554-80B12FB2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9398-7561-48D1-BFD2-618A7D482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90DE-2FDF-494B-ADAD-3B0E1F9B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C797B-23DA-4F57-9B57-5B077650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16A94-AA66-4125-BE6B-D3F3BB4A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C5E44-A6FF-42B4-AC63-639AEF38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DA98C-14FD-4854-AFEA-7A94D920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C30C9-B698-4485-B4F1-99C331BE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0D420-95FE-45A1-806F-BA5709A9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4412B-9E4D-495E-8E59-C91651E7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0392-A101-4D62-82D6-93148FE6CEA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60CB-CBDB-4B3F-B31F-ED9A794BB3E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Мониторинг </a:t>
            </a:r>
            <a:br>
              <a:rPr sz="5000"/>
            </a:b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в образовании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ды мониторин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уровням управ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школь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районн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областной (региональный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федераль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9152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зличия между мониторингом и исследова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ладая признаками эмпирического исследования,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ониторинг имеет следующие существенные отлич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ичина возникнове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отсутствие качественной информаци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причина любого научного исследования – осознание недостаточности имеющихся знаний для удовлетворительного описания какого-либо явления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его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ценны в ограниченный период времени: чем выше динамика развития системы, тем короче период ценности данны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научное исследование предполагает минимизацию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личества показателе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для мониторинга важен более широкий выбо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мониторинг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близок к наблюдению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он не предполагает на этапе проведения вмешательства в функционирование систе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мониторинг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 имеет целью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одтверждение или опровержение гипотез, хотя в результате могут быть получены данные, имеющие научную цен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рганизация мониторин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нципы мониторин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Объективность информации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сс мониторинга должен опираться на объективные, максимально формализованные и легко проверяемые дан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Сравнимость данных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ниторинг предполагает не только констатацию состояния системы, но и изучение ее изменений. Возможность для сравнения появляется только тогда, когда изучается один и тот же объект на основе одинаковых показа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нципы мониторин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декватность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лагает изучение системы с учетом изменяющихся внешних условий (на соответствие и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Прогностичность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учение данных, позволяющих прогнозировать будущее системы, возможные изменения в путях достижения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Принцип целевого назначения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учение необходимой и достаточной информации, исходя из обозначенной цели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рганизация мониторин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акторы и условия проведения мониторин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ачество инструментар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ируемый фактор; общеметодологические требования к инструменту – валидность, надежность, удобство использования, соответствие целям обследования, корректность статистических процедур, стандартизированность, апробированность и т.д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79280" y="476280"/>
            <a:ext cx="87854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офессионализм и подготовленность специалист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тролируемый фактор; процесс измерения разбивается на несколько этапов: создание инструментария, измерения, интерпретация результатов, подготовка рекомендаций, которые могут использовать специалис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зменение экспертов в процессе измере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тролируемый при определенных условиях фактор; причина изменений – научение, появление опыта, согласование позиций, когда мнение одного, более авторитетного эксперта начинает смещать оценки други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50920" y="549360"/>
            <a:ext cx="86421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татистическая регресс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кажение результатов в процессе обслед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цикличнос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контролируемый, но учитываемый фактор; социальные процессы имеют ярко выраженный циклический характер, что необходимо учитыва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тбор испытуем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ианты отбора и формирование экспериментальных групп – один из центральных факторов, контроль за которым позволяет не только выровнять оценки, но и решить проблему распространения результатов обследования на более широкую аудитор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рушение в информационных потока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ъект измерения может обладать информацией, специальное знакомство с которой при измерении не предполагается, или часть этой информации отсутствует, или владение информацией недостаточ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зличные мотивации участников в естественных условия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о оказывается, что одни и те же действия в ситуациях управления осуществляются с неодинаковыми цел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эффект повторного измере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какое-то задание уже выполнялось, это скажется на его повторении. Вопрос в том, при каких условиях можно считать такие влияния достаточно малыми с точки зрения их воздействия на конечный результ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628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ределение понятия «мониторинг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стема сбора, обработки, хранения и распространения информации об образовательной системе или отдельных ее элементах, ориентированная на информационное обеспечение управления, которая позволяет судить о состоянии объекта в любой момент времени и может обеспечить прогноз его развития (А.Н. Майоров, Т.А. Степанова и д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4216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зменение группы под влиянием отношений окружающих, вызванных экспериментальным влияние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экспериментальных условиях люди начинают оценивать  свое положение относительно тех, кто в такие условия не попал. Если эти оценки активно поддерживаются окружением, то у представителей группы начинает вырабатываться иная система оцени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рупповая фальсификация результат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спонденты договариваются, какие оценки будут дава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713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зменение группы в процессе эксперимент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ия могут иметь как случайный, так и системный характер; они могут быть естественными и спровоцированны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естественное развит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роцессе эксперимента происходит естественное развитие как всей группы, так и ее отдельных членов; чем меньше дети, тем динамика их развития больш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циально-территориальные особенности групп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ирая, например, в качестве единицы измерения класс, чтобы не получить смещенных оценок и иметь возможность для корректного сравнения, необходимо учитывать его социально-демографические характерист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зные события для разных групп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азличные воздействия в межэкспериментальный период могут вызвать различные смещения оцен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зличия во внутренней жизни групп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ществуют объективные закономерности жизни группы, связанные с ее морфологией и определяющие качественные изменения, различные в каждом конкретном случа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различия в скорости протекания внутригрупповых процесс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периментальное или управленческое воздействие на группы могут дать одинаковый эффект, но скорость их проявления может быть разной. Существует реальная опасность зафиксировать отсутствие эффекта, хотя он просто еще не проявил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8920" y="476280"/>
            <a:ext cx="8713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словия, вызывающие реакцию на эксперимен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альные изменения, наблюдаемые в условиях и вне эксперимента, могут оказаться неэквивалентны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нтерференция воздействи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никает тогда, когда один и тот же испытуеый подвергается различным воздействиям, разнесенным по време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инергиз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лучае совместного проявления некоторых воздействий, одно из которых может иметь естественный, а другое экспериментальный (отслеживаемый) характер, эффект может превзойти предполагаемые и вероятные эффекты каждого из них. Существует опасность восприятия эксперимента как неудавшего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000" y="765000"/>
            <a:ext cx="8218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мпенсаторнос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ин эффект может компенсировать другой: два или несколько воздействий, проявляясь одновременно, могут скомпенсировать эффект, который вызывается иными событиями. Например, повышение субъективных оценок уровня удовлетворенности заработной платой при наличии дополнительных возможностей для твор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3628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рганизационно-правовые основы мониторинга в О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ложение о службе мониторинга (задачи, направления, содержание деятельности службы, права и обязанности членов, формы отчета, сроки предоставления) – утверждается на педсове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каз о составе службы мониторинга на текущий учебный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кты мониторинговой оценки зафиксированы в годовом плане, программе развития, образовательной програм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итерии эффективности мониторинга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Г.Горб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этически выдержана и не нарушает личностных прав субъектов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способствует конкретизации личностных и групповых целей образовательной деятельности Д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ректно заданы норм и стандарты мониторинговой оце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помогает лучше оценивать уровень профессиональной подготовки и определять наиболее эффективные пути профессионального совершенствования 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мотивирует индивида к повышению своего профессионального уровня и стимулирует личностное само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итерии эффективности мониторинга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Г.Горб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способствует конструктивному диалогу между участниками образовате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создает условия для рационального разрешения проблем, возникающих в профессиональной груп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носит неагрессивный характер и в достаточной степени доступна всем субъектам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способствует повышению культуры 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я помогает оценить качество реализации в образовательном процессе требований Государственного образовательного стандар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хнологическая карта мониторин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5075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рмативно-установочны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алитико-диагност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гност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ятельностно-технолог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межуточно-диагност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тогово-диагност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учно-методически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феры применения мониторин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3628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 областям примен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в экологии, биологии, медицине, экономике, бизнесе, в промышленности и образовани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 средствам провед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дагогический, психологический, социологический, медицинский, демографический мониторин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 способам сбора информац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гр. – непосредственное описание объектов без каких-либо изменен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гр.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осредственное физическое измерение параметров объек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гр. – параметры объекта измеряются с использованием хорошо разработанных и общепринятых критериев или индикато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гр. – измерение проводится опосредованно, с привлечением технологий научного исследования, использованием особо оговоренных систем критериев и показа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3628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истемы мониторинга в образов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-я гр. – накопление и структуризация информации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мониторинг законодательной базы управления образованием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-я гр. – мониторинг развития знаний уч-ся ( модель «цель – результат» и учет характеристик процесса обучения; объект – знания ученика, по которым допускаются выводы о ситуации в учебной групп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-я гр. – построены по модели «вход – выход» ( в качестве входа – характеристики ученика, на выходе – эффект влияния школы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-я гр. – системы мониторинга на уровне ОУ (попытка оценить эффективность той или иной технологии обучения, выделить факторы, влияющие на качество обучения, найти примеры связи квалификации педагога и результатов преподавания и т.д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ды мониторин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целя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нформационны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предполагает структуризацию, накопление, распространение информации 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редусматривает специально организованного обследования на этапе сбора информ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базовы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выявляет проблемы и опасности до того, как они будут осознаны в сфере управл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облемны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позволяет исследовать закономерности процессов, степени опасностей, типологию проблем, известных и насущных с точки зрения управл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правленчески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ставит целью отслеживать и оценивать эффективность, последствия и вторичные эффекты принятых ре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ды мониторин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основаниям экспертиз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динамически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основанием для экспертизы служат данные о динамике развития объекта, явления или показате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онкурентны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выбираются результаты идентичного обследования других образовательных сист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равнительны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в качестве основания выступают результаты идентичного обследования одной или двух систем более высокого уровн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мплексны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используется несколько оснований для экспертиз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безосновно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предметом анализа являются результаты, полученные в одном исследовании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акой способ не может быть корректным, но существует, порождая массу ошибок и недоразум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2T12:59:49Z</dcterms:created>
  <dc:creator>Чистякова Л.А.</dc:creator>
  <dc:description/>
  <dc:language>en-US</dc:language>
  <cp:lastModifiedBy>LEGION</cp:lastModifiedBy>
  <dcterms:modified xsi:type="dcterms:W3CDTF">2015-01-27T12:15:50Z</dcterms:modified>
  <cp:revision>12</cp:revision>
  <dc:subject/>
  <dc:title>Мониторинг  в образовании </dc:title>
</cp:coreProperties>
</file>